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AF2-4CC9-4B58-B25A-C1F6A521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EB6-B377-464F-A5C7-0D7CD875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060-5424-4F5E-878C-2F3BB523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528-8429-4495-A299-89DCD608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3C2-D038-4D3F-91E1-41A11960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0E1-52E9-4E08-A192-FB92D46B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8FC-9346-4F80-945B-48DB59DC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9C0-86CF-416F-89D2-863D3C19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C0AF-CC33-4EF2-87E8-081A9198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16C-B381-4E49-934B-972D4CE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968-D09D-4469-BD66-B18BDD1E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7017-E313-4103-A346-6C55BC4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FF0E-21E2-45CF-BCCF-C3E41E2A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00000" y="333360"/>
            <a:ext cx="10915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2:08:35Z</dcterms:created>
  <dc:creator>juni5627</dc:creator>
  <dc:description/>
  <dc:language>en-US</dc:language>
  <cp:lastModifiedBy>juni5627</cp:lastModifiedBy>
  <dcterms:modified xsi:type="dcterms:W3CDTF">2011-12-05T12:08:46Z</dcterms:modified>
  <cp:revision>1</cp:revision>
  <dc:subject/>
  <dc:title>Diapositiva 1</dc:title>
</cp:coreProperties>
</file>